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37E8E-6F35-406A-BBF3-F02EDB270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67DD9-EF36-4B2B-9764-7A22C5DF3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723A2-5EA3-4910-9D1C-7E985747F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31D56-8D5A-4B09-909F-4FD95D267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AF92B-C1E5-4A41-A6AD-879D931D0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C6887-E41A-4CB8-9680-8A5D60EEE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E98EF-03F9-4A72-8A2B-544E27A7F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DBEDB-ACE1-49BA-A81C-D62CDBE7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CB537-8160-4C46-87C5-A0C9CB904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5F7D2-978C-4F3F-8A2E-E8489CEE2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ED755-0CDE-4470-92B7-B04EDE67C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CE1D2-CD8F-492D-B317-565E1D89A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9B96-27EC-4AED-849E-B5865852C1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W4100 Test Procedure</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jumpers are installed properly.</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 the 5V supply to the TSW4100.</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D’s D4 and D5 should now be illuminated. If not, double check the jumper setting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600" y="2286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window that has “Read EEPROM and change it to “Write EEPRO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in the TI EVM window and change the setting to the following:   “TSW4100 (GC5016)</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UI shall now look as shown to the righ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white arrow on the top left to program the USB device.</a:t>
            </a:r>
            <a:endParaRPr b="0" lang="en-US" sz="1600" spc="-1" strike="noStrike">
              <a:solidFill>
                <a:srgbClr val="000000"/>
              </a:solidFill>
              <a:latin typeface="Arial"/>
            </a:endParaRPr>
          </a:p>
        </p:txBody>
      </p:sp>
      <p:pic>
        <p:nvPicPr>
          <p:cNvPr id="60" name="" descr=""/>
          <p:cNvPicPr/>
          <p:nvPr/>
        </p:nvPicPr>
        <p:blipFill>
          <a:blip r:embed="rId1"/>
          <a:stretch/>
        </p:blipFill>
        <p:spPr>
          <a:xfrm>
            <a:off x="4648320" y="304920"/>
            <a:ext cx="4038480" cy="582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28600" y="228600"/>
            <a:ext cx="403848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in the window that shows “Write EEPROM” and change the setting to “Read EEPRO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white arrow on the top left to read the USB device. The GUI shall now look as shown to the righ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ug the USB cable.  This completes the USB serialization.</a:t>
            </a:r>
            <a:endParaRPr b="0" lang="en-US" sz="1600" spc="-1" strike="noStrike">
              <a:solidFill>
                <a:srgbClr val="000000"/>
              </a:solidFill>
              <a:latin typeface="Arial"/>
            </a:endParaRPr>
          </a:p>
        </p:txBody>
      </p:sp>
      <p:pic>
        <p:nvPicPr>
          <p:cNvPr id="62" name="" descr=""/>
          <p:cNvPicPr/>
          <p:nvPr/>
        </p:nvPicPr>
        <p:blipFill>
          <a:blip r:embed="rId1"/>
          <a:stretch/>
        </p:blipFill>
        <p:spPr>
          <a:xfrm>
            <a:off x="4648320" y="304920"/>
            <a:ext cx="4038480" cy="582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W4100 Board level test</a:t>
            </a:r>
            <a:endParaRPr b="0" lang="en-US" sz="2400" spc="-1" strike="noStrike">
              <a:solidFill>
                <a:srgbClr val="000000"/>
              </a:solidFill>
              <a:latin typeface="Arial"/>
            </a:endParaRPr>
          </a:p>
        </p:txBody>
      </p:sp>
      <p:sp>
        <p:nvSpPr>
          <p:cNvPr id="64"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two USB cables between the TSW4100 evm and the PC.</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 the 5V power supply plug into the TSW4100. </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reset switch SW5 that is labeled DAC RESET.</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the TSW4100 DAC and CDC GUI.</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UI shall connect say “Connected to the DAC5688 evm” and look as shown in the next slide.</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W4100 DAC and CDC GUI</a:t>
            </a:r>
            <a:endParaRPr b="0" lang="en-US" sz="2800" spc="-1" strike="noStrike">
              <a:solidFill>
                <a:srgbClr val="000000"/>
              </a:solidFill>
              <a:latin typeface="Arial"/>
            </a:endParaRPr>
          </a:p>
        </p:txBody>
      </p:sp>
      <p:pic>
        <p:nvPicPr>
          <p:cNvPr id="6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Load Settings” option on the far left of the GUI. When asked for a file, navigate to C:\TSW41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file called “TSW4100_DAC_CDC_example_1.txt. Click on “O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title called “DAC5688 Registers” on the top left side of the GU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tab labeled “P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window will open. Make sure the PLL Lock indicator is green, as shown on the next slid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L is locked</a:t>
            </a:r>
            <a:endParaRPr b="0" lang="en-US" sz="3200" spc="-1" strike="noStrike">
              <a:solidFill>
                <a:srgbClr val="000000"/>
              </a:solidFill>
              <a:latin typeface="Arial"/>
            </a:endParaRPr>
          </a:p>
        </p:txBody>
      </p:sp>
      <p:pic>
        <p:nvPicPr>
          <p:cNvPr id="7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W4100 GUI</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lick on the TSW4100 GUI 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gui will open and look as shown in the next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W4100 GUI</a:t>
            </a:r>
            <a:endParaRPr b="0" lang="en-US" sz="4400" spc="-1" strike="noStrike">
              <a:solidFill>
                <a:srgbClr val="000000"/>
              </a:solidFill>
              <a:latin typeface="Arial"/>
            </a:endParaRPr>
          </a:p>
        </p:txBody>
      </p:sp>
      <p:pic>
        <p:nvPicPr>
          <p:cNvPr id="7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button called “Open” at the bottom of the GUI.</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gate to C:\TSW4100 and select the file called TSW4100example2_config.mat</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OK”</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GUI, click on the button called “Configure”, located at the bottom left of the GUI. </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configuration is completed, (about 2 minutes) the status window on the bottom right of the gui will display “Finished”.</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s D7 and D8 located near the middle bottom of the board should now both be blinking.</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a signal generator output to connector J9, which is labeled “AIN” on the TSW4100 evm.</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generator to output a 85 MHz, 1.0 dBm sinewave.</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output SMA J11 (IOUTB) to a spectrum analyzer.</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p the input signal from 85 to 140 MHZ. Tones should appear at the following:</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 6 MHZ</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 2.5 MHZ</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 +/-8 MHZ</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of te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W4100 firmware loading instructions</a:t>
            </a:r>
            <a:endParaRPr b="0" lang="en-US" sz="2400" spc="-1" strike="noStrike">
              <a:solidFill>
                <a:srgbClr val="000000"/>
              </a:solidFill>
              <a:latin typeface="Arial"/>
            </a:endParaRPr>
          </a:p>
        </p:txBody>
      </p:sp>
      <p:sp>
        <p:nvSpPr>
          <p:cNvPr id="44"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the Altera Quartus software.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 Altera USB Byte blaster into USB port of PC and J14 of TSW4100. This is the 10 pin connector labeled “JTAG”.</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PC, double click on the Quartus Icon.</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Quartus opens, click on “Tools”, then select “Programmer”</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window will appear as shown in the next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us Programming Tool</a:t>
            </a:r>
            <a:endParaRPr b="0" lang="en-US" sz="2000" spc="-1" strike="noStrike">
              <a:solidFill>
                <a:srgbClr val="000000"/>
              </a:solidFill>
              <a:latin typeface="Arial"/>
            </a:endParaRPr>
          </a:p>
        </p:txBody>
      </p:sp>
      <p:pic>
        <p:nvPicPr>
          <p:cNvPr id="46" name="" descr=""/>
          <p:cNvPicPr/>
          <p:nvPr/>
        </p:nvPicPr>
        <p:blipFill>
          <a:blip r:embed="rId1"/>
          <a:stretch/>
        </p:blipFill>
        <p:spPr>
          <a:xfrm>
            <a:off x="1143000" y="990720"/>
            <a:ext cx="7238880" cy="513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74680"/>
            <a:ext cx="838188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Hardware setup in the top left side of the GUI does not say USB blaster, you must change this setting. Click on the “Hardware Setup” button. The following screen shall appear:</a:t>
            </a:r>
            <a:br>
              <a:rPr sz="1600"/>
            </a:br>
            <a:endParaRPr b="0" lang="en-US" sz="1600" spc="-1" strike="noStrike">
              <a:solidFill>
                <a:srgbClr val="000000"/>
              </a:solidFill>
              <a:latin typeface="Arial"/>
            </a:endParaRPr>
          </a:p>
        </p:txBody>
      </p:sp>
      <p:pic>
        <p:nvPicPr>
          <p:cNvPr id="48" name="" descr=""/>
          <p:cNvPicPr/>
          <p:nvPr/>
        </p:nvPicPr>
        <p:blipFill>
          <a:blip r:embed="rId1"/>
          <a:stretch/>
        </p:blipFill>
        <p:spPr>
          <a:xfrm>
            <a:off x="1600200" y="1523880"/>
            <a:ext cx="6019920" cy="401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74680"/>
            <a:ext cx="838188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USB-Blaster [USB-0]” is the currently selected hardware. If not, click on the down arrow to the right of the current selection. This will open a list which you can chose from.</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50" name="" descr=""/>
          <p:cNvPicPr/>
          <p:nvPr/>
        </p:nvPicPr>
        <p:blipFill>
          <a:blip r:embed="rId1"/>
          <a:stretch/>
        </p:blipFill>
        <p:spPr>
          <a:xfrm>
            <a:off x="1143000" y="1295280"/>
            <a:ext cx="66294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Hardware Setup is set, click on the “Add File” button on the left side of the GUI, then browse to C:\TSW4100\output_file.jic. Click on this file, then click on “Open”. Next, select the two boxes under the “Program/Configure” column as shown below.</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52" name="" descr=""/>
          <p:cNvPicPr/>
          <p:nvPr/>
        </p:nvPicPr>
        <p:blipFill>
          <a:blip r:embed="rId1"/>
          <a:stretch/>
        </p:blipFill>
        <p:spPr>
          <a:xfrm>
            <a:off x="1219320" y="1219320"/>
            <a:ext cx="6440400" cy="490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Start” button on the top left of the GUI to start the download to the prom. If the device programmed properly, the quartus window should look as shown below.</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4" name="" descr=""/>
          <p:cNvPicPr/>
          <p:nvPr/>
        </p:nvPicPr>
        <p:blipFill>
          <a:blip r:embed="rId1"/>
          <a:stretch/>
        </p:blipFill>
        <p:spPr>
          <a:xfrm>
            <a:off x="1482840" y="1600200"/>
            <a:ext cx="6176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228600"/>
            <a:ext cx="403848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 a USB cable into connector J25 called DAC/CDC US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C will say “Found new hardware”. When the window opens to download the drivers, select “Continue” when prompt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click on the USB Serializer icon to start the GUI. The GUI shall look as shown below.</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in the TI EVM window and change the setting to the following:   “TSW4100 (DAC and CD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white arrow on the top left to program the USB device.</a:t>
            </a:r>
            <a:endParaRPr b="0" lang="en-US" sz="1600" spc="-1" strike="noStrike">
              <a:solidFill>
                <a:srgbClr val="000000"/>
              </a:solidFill>
              <a:latin typeface="Arial"/>
            </a:endParaRPr>
          </a:p>
        </p:txBody>
      </p:sp>
      <p:pic>
        <p:nvPicPr>
          <p:cNvPr id="56" name="" descr=""/>
          <p:cNvPicPr/>
          <p:nvPr/>
        </p:nvPicPr>
        <p:blipFill>
          <a:blip r:embed="rId1"/>
          <a:stretch/>
        </p:blipFill>
        <p:spPr>
          <a:xfrm>
            <a:off x="4648320" y="457200"/>
            <a:ext cx="4038480" cy="566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600" y="228600"/>
            <a:ext cx="403848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in the window that shows “Write EEPROM” and change the setting to “Read EEPRO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white arrow on the top left to read the USB device. The GUI shall now look as shown to the righ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ug the USB cable and move it to connector J26, labeled GC US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C will say “Found new hardware”. When the window opens to download the drivers, select “Continue” when prompt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 descr=""/>
          <p:cNvPicPr/>
          <p:nvPr/>
        </p:nvPicPr>
        <p:blipFill>
          <a:blip r:embed="rId1"/>
          <a:stretch/>
        </p:blipFill>
        <p:spPr>
          <a:xfrm>
            <a:off x="4648320" y="304920"/>
            <a:ext cx="4038480" cy="582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13:58:26Z</dcterms:created>
  <dc:creator>a0181823</dc:creator>
  <dc:description/>
  <dc:language>en-US</dc:language>
  <cp:lastModifiedBy>a0181823</cp:lastModifiedBy>
  <dcterms:modified xsi:type="dcterms:W3CDTF">2008-10-07T12:33:31Z</dcterms:modified>
  <cp:revision>30</cp:revision>
  <dc:subject/>
  <dc:title>Slide 1</dc:title>
</cp:coreProperties>
</file>