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920-EB65-4956-902B-0FB7AD4A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46A-AE59-4202-9F20-E9126D47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6C2-A10A-4A73-85A4-2388C7E7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284-28B8-4A0E-8C25-24A4C50D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A54-D36A-46D4-A94A-5465E88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3C4-ECCE-489F-96AF-D44608B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71E-4020-4144-9117-A6CEF2F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B9B-0724-4663-B994-2DED3444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834-C3B4-4216-94BC-3755F24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D5A-942D-4A0D-BFAD-080751E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389-EA68-4D15-B57B-719B1D3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AF9-03B6-478C-86C9-85B5009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D8D1-5D7A-47CC-8540-23079B65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981080"/>
            <a:ext cx="990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76520"/>
            <a:ext cx="838080" cy="3124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895480"/>
            <a:ext cx="990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886200"/>
            <a:ext cx="990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438280"/>
            <a:ext cx="83808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98108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0.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0.r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89548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1.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1.r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9625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2.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2.r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2133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x6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3124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x6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4114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x6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057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0.b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2.b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971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1.b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9144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28954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Code.b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048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ttbl2H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2743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438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Cod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Code.bin (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61356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 by David Zh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9:16:47Z</dcterms:created>
  <dc:creator>a0870196</dc:creator>
  <dc:description/>
  <dc:language>en-US</dc:language>
  <cp:lastModifiedBy>a0870196</cp:lastModifiedBy>
  <dcterms:modified xsi:type="dcterms:W3CDTF">2007-06-06T16:28:38Z</dcterms:modified>
  <cp:revision>9</cp:revision>
  <dc:subject/>
  <dc:title>Slide 1</dc:title>
</cp:coreProperties>
</file>