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9BF4-3350-4B2D-99C3-0393BBE41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B217-BDFD-4BFB-979F-F1CA9020B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89D9-E4D4-4179-A5B6-AB54F0E24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448A-5E37-4E3B-A0EF-14C18EDBC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8D25-7B63-4873-814C-0662E5003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BCC3-A363-476C-870F-E0BDF0CA6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6EEE-FBC4-4906-8967-B37E4911D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4766-969E-4CC7-BA7C-58B2E4ED9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2315-FF94-4029-BBD2-E1FB81F24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6F00-C790-473F-9225-AC80086E8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60CB-6128-4F30-82BA-DE35D5489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31AC-A76A-4ACE-AF1B-CA6F3A624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6F3E6-E9B4-46BF-80B3-6E4965B10B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5292720" y="4149720"/>
            <a:ext cx="3384720" cy="2286000"/>
            <a:chOff x="5292720" y="4149720"/>
            <a:chExt cx="3384720" cy="2286000"/>
          </a:xfrm>
        </p:grpSpPr>
        <p:sp>
          <p:nvSpPr>
            <p:cNvPr id="42" name="正方形/長方形 3"/>
            <p:cNvSpPr/>
            <p:nvPr/>
          </p:nvSpPr>
          <p:spPr>
            <a:xfrm>
              <a:off x="5292720" y="4149720"/>
              <a:ext cx="3384720" cy="228600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正方形/長方形 4"/>
            <p:cNvSpPr/>
            <p:nvPr/>
          </p:nvSpPr>
          <p:spPr>
            <a:xfrm>
              <a:off x="5292720" y="4749120"/>
              <a:ext cx="3384720" cy="1086840"/>
            </a:xfrm>
            <a:prstGeom prst="rect">
              <a:avLst/>
            </a:prstGeom>
            <a:solidFill>
              <a:srgbClr val="333399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正方形/長方形 4"/>
          <p:cNvSpPr/>
          <p:nvPr/>
        </p:nvSpPr>
        <p:spPr>
          <a:xfrm>
            <a:off x="324000" y="692280"/>
            <a:ext cx="5184720" cy="2449440"/>
          </a:xfrm>
          <a:prstGeom prst="rect">
            <a:avLst/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076720" y="3213000"/>
            <a:ext cx="57492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836640"/>
            <a:ext cx="518472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4360" y="692280"/>
            <a:ext cx="0" cy="2449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124000" y="404640"/>
            <a:ext cx="93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2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11280" y="1773360"/>
            <a:ext cx="93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7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4038480"/>
            <a:ext cx="38862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ing letterbox picture exampl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80x720 to 640x48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640x480 area is used for encoder inpu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076720" y="4149720"/>
            <a:ext cx="0" cy="230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92720" y="3933720"/>
            <a:ext cx="3382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643280" y="5157720"/>
            <a:ext cx="93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16720" y="3645000"/>
            <a:ext cx="93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580000" y="4149720"/>
            <a:ext cx="0" cy="5745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580000" y="4797360"/>
            <a:ext cx="0" cy="10080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580000" y="5877000"/>
            <a:ext cx="0" cy="5745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508720" y="5157720"/>
            <a:ext cx="93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580000" y="4292640"/>
            <a:ext cx="93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580000" y="6021360"/>
            <a:ext cx="93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292720" y="5013360"/>
            <a:ext cx="338292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16720" y="4724280"/>
            <a:ext cx="93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6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324480" y="1219320"/>
            <a:ext cx="2514600" cy="5029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324480" y="1219320"/>
            <a:ext cx="2514600" cy="8380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ZA 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324480" y="2057400"/>
            <a:ext cx="2514600" cy="4572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ZB 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705720" y="76212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ual buf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4648320" y="1218960"/>
            <a:ext cx="1676160" cy="6858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4920" y="1219320"/>
            <a:ext cx="4343400" cy="23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frame buffer address via IOC_QBUF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RZA output addr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ZA frame size is configured via IOC_S_FM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ZB frame size is configured via RSZ_S_CONFI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324480" y="2895480"/>
            <a:ext cx="2514600" cy="8384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ZA 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324480" y="3733920"/>
            <a:ext cx="2514600" cy="4572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ZB 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324480" y="4648320"/>
            <a:ext cx="2514600" cy="8380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ZA 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324480" y="5486400"/>
            <a:ext cx="2514600" cy="4572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ZB 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48320" y="1905120"/>
            <a:ext cx="1676160" cy="990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48320" y="1905120"/>
            <a:ext cx="1676160" cy="3276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3352680"/>
            <a:ext cx="43434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ZB output address is calculated  automatically in kern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depends on RZA output frame siz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4724280" y="2057400"/>
            <a:ext cx="1600200" cy="1752480"/>
          </a:xfrm>
          <a:prstGeom prst="line">
            <a:avLst/>
          </a:prstGeom>
          <a:ln w="936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4724280" y="3733560"/>
            <a:ext cx="1600200" cy="75960"/>
          </a:xfrm>
          <a:prstGeom prst="line">
            <a:avLst/>
          </a:prstGeom>
          <a:ln w="936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724280" y="3809880"/>
            <a:ext cx="1600200" cy="1676520"/>
          </a:xfrm>
          <a:prstGeom prst="line">
            <a:avLst/>
          </a:prstGeom>
          <a:ln w="936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82320" y="380880"/>
            <a:ext cx="253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urrent LSP behav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6019920" y="762120"/>
            <a:ext cx="2514600" cy="556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019920" y="1066680"/>
            <a:ext cx="2514600" cy="8384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ZA 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19920" y="2362320"/>
            <a:ext cx="2514600" cy="4572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ZB 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400800" y="30492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ual buf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19920" y="762120"/>
            <a:ext cx="2514600" cy="304560"/>
          </a:xfrm>
          <a:prstGeom prst="rect">
            <a:avLst/>
          </a:prstGeom>
          <a:solidFill>
            <a:srgbClr val="00000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ff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019920" y="1905120"/>
            <a:ext cx="2514600" cy="304560"/>
          </a:xfrm>
          <a:prstGeom prst="rect">
            <a:avLst/>
          </a:prstGeom>
          <a:solidFill>
            <a:srgbClr val="00000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ff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019920" y="2209680"/>
            <a:ext cx="251460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ff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019920" y="2819520"/>
            <a:ext cx="251460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ff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019920" y="3581280"/>
            <a:ext cx="2514600" cy="8384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ZA 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019920" y="4876920"/>
            <a:ext cx="2514600" cy="4572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ZB 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019920" y="3276720"/>
            <a:ext cx="2514600" cy="304560"/>
          </a:xfrm>
          <a:prstGeom prst="rect">
            <a:avLst/>
          </a:prstGeom>
          <a:solidFill>
            <a:srgbClr val="00000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ff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019920" y="4419720"/>
            <a:ext cx="2514600" cy="304560"/>
          </a:xfrm>
          <a:prstGeom prst="rect">
            <a:avLst/>
          </a:prstGeom>
          <a:solidFill>
            <a:srgbClr val="00000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ff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4724280"/>
            <a:ext cx="251460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ff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9920" y="5334120"/>
            <a:ext cx="251460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ff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83760" y="3808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 u="sng">
                <a:solidFill>
                  <a:srgbClr val="000000"/>
                </a:solidFill>
                <a:uFillTx/>
                <a:latin typeface="Arial"/>
              </a:rPr>
              <a:t>LetterBox requ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59720" y="1143000"/>
            <a:ext cx="4903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) set RZA buffer size(640x480) starting at X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) set actual resize size(640x360) paramet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resize regist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3) set RZA start position at X+640x60 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4) same as required for RZ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486400" y="609480"/>
            <a:ext cx="3808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7621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486400" y="3124080"/>
            <a:ext cx="3808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715000" y="3276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019920" y="762120"/>
            <a:ext cx="2514600" cy="556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19920" y="990720"/>
            <a:ext cx="2514600" cy="3808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ZA Y 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2286000"/>
            <a:ext cx="2514600" cy="228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ZB Y 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30492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ual buf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019920" y="762120"/>
            <a:ext cx="251460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ff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019920" y="2133720"/>
            <a:ext cx="251460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ff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19920" y="2514600"/>
            <a:ext cx="251460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ff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1240" y="380880"/>
            <a:ext cx="232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 u="sng">
                <a:solidFill>
                  <a:srgbClr val="000000"/>
                </a:solidFill>
                <a:uFillTx/>
                <a:latin typeface="Arial"/>
              </a:rPr>
              <a:t>TI’s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" y="1143000"/>
            <a:ext cx="380988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(1) Fill the buffer with black data starting at location X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(2) Set RSZA output width to 640 and output height to 36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(3) Set RSZA user_y_ofst to 640x6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(4) Set RSZA user_c_ofst to 640x60+640x3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(5) Set RSZA output address as 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(6) Set RSZB user_y_ofst to 640x30+320x3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(7) Set RSZB user_c_ofst to 320x30+320x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3300"/>
                </a:solidFill>
                <a:latin typeface="Arial"/>
              </a:rPr>
              <a:t>Constraint is that all addresses for resizer output have to be 32 byte aligned. So the offsets need to ensure that addresses are corr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609480"/>
            <a:ext cx="3808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715000" y="7621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486400" y="3124080"/>
            <a:ext cx="3808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715000" y="3276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867280" y="838080"/>
            <a:ext cx="76320" cy="152640"/>
          </a:xfrm>
          <a:custGeom>
            <a:avLst/>
            <a:gdLst>
              <a:gd name="textAreaLeft" fmla="*/ 48960 w 76320"/>
              <a:gd name="textAreaRight" fmla="*/ 76320 w 76320"/>
              <a:gd name="textAreaTop" fmla="*/ 3960 h 152640"/>
              <a:gd name="textAreaBottom" fmla="*/ 148680 h 152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867280" y="2057400"/>
            <a:ext cx="76320" cy="228600"/>
          </a:xfrm>
          <a:custGeom>
            <a:avLst/>
            <a:gdLst>
              <a:gd name="textAreaLeft" fmla="*/ 48960 w 76320"/>
              <a:gd name="textAreaRight" fmla="*/ 76320 w 76320"/>
              <a:gd name="textAreaTop" fmla="*/ 5760 h 228600"/>
              <a:gd name="textAreaBottom" fmla="*/ 22284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5714640" y="99072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714640" y="220968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019920" y="1371600"/>
            <a:ext cx="251460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ff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1752480"/>
            <a:ext cx="2514600" cy="2286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ZA C 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019920" y="1981080"/>
            <a:ext cx="251460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019920" y="1600200"/>
            <a:ext cx="251460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019920" y="2819520"/>
            <a:ext cx="2514600" cy="15228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ZB C 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019920" y="2666880"/>
            <a:ext cx="251460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019920" y="2971800"/>
            <a:ext cx="251460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867280" y="1447920"/>
            <a:ext cx="76320" cy="304560"/>
          </a:xfrm>
          <a:custGeom>
            <a:avLst/>
            <a:gdLst>
              <a:gd name="textAreaLeft" fmla="*/ 48960 w 76320"/>
              <a:gd name="textAreaRight" fmla="*/ 76320 w 76320"/>
              <a:gd name="textAreaTop" fmla="*/ 7920 h 304560"/>
              <a:gd name="textAreaBottom" fmla="*/ 29664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5714640" y="160020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867280" y="2590920"/>
            <a:ext cx="76320" cy="228600"/>
          </a:xfrm>
          <a:custGeom>
            <a:avLst/>
            <a:gdLst>
              <a:gd name="textAreaLeft" fmla="*/ 48960 w 76320"/>
              <a:gd name="textAreaRight" fmla="*/ 76320 w 76320"/>
              <a:gd name="textAreaTop" fmla="*/ 5760 h 228600"/>
              <a:gd name="textAreaBottom" fmla="*/ 22284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5714640" y="274320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419720" y="1295280"/>
            <a:ext cx="152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sza.user_y_of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1828800"/>
            <a:ext cx="152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sza.user_c_of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419720" y="2362320"/>
            <a:ext cx="152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szb.user_y_of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419720" y="2895480"/>
            <a:ext cx="152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szb.user_c_of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shuman Saxena</cp:lastModifiedBy>
  <dcterms:modified xsi:type="dcterms:W3CDTF">2010-12-14T13:57:10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